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fly.wav" ContentType="audio/x-wav"/>
  <Override PartName="/ppt/media/image27.png" ContentType="image/png"/>
  <Override PartName="/ppt/media/image17.png" ContentType="image/png"/>
  <Override PartName="/ppt/media/squish1.wav" ContentType="audio/x-wav"/>
  <Override PartName="/ppt/media/jungle2.wav" ContentType="audio/x-wav"/>
  <Override PartName="/ppt/media/image16.png" ContentType="image/png"/>
  <Override PartName="/ppt/media/plane.wav" ContentType="audio/x-wav"/>
  <Override PartName="/ppt/media/image15.png" ContentType="image/png"/>
  <Override PartName="/ppt/media/image6.gif" ContentType="image/gif"/>
  <Override PartName="/ppt/media/image9.png" ContentType="image/png"/>
  <Override PartName="/ppt/media/image29.gif" ContentType="image/gif"/>
  <Override PartName="/ppt/media/bikebell.wav" ContentType="audio/x-wav"/>
  <Override PartName="/ppt/media/image26.png" ContentType="image/png"/>
  <Override PartName="/ppt/media/image3.png" ContentType="image/png"/>
  <Override PartName="/ppt/media/prairiedog.wav" ContentType="audio/x-wav"/>
  <Override PartName="/ppt/media/image28.png" ContentType="image/png"/>
  <Override PartName="/ppt/media/image30.png" ContentType="image/png"/>
  <Override PartName="/ppt/media/image5.png" ContentType="image/png"/>
  <Override PartName="/ppt/media/image23.png" ContentType="image/png"/>
  <Override PartName="/ppt/media/image24.png" ContentType="image/png"/>
  <Override PartName="/ppt/media/image8.png" ContentType="image/png"/>
  <Override PartName="/ppt/media/image25.png" ContentType="image/png"/>
  <Override PartName="/ppt/media/image2.png" ContentType="image/png"/>
  <Override PartName="/ppt/media/mine.wav" ContentType="audio/x-wav"/>
  <Override PartName="/ppt/media/carcrsh.wav" ContentType="audio/x-wav"/>
  <Override PartName="/ppt/media/image7.png" ContentType="image/png"/>
  <Override PartName="/ppt/media/image10.png" ContentType="image/png"/>
  <Override PartName="/ppt/media/groan1.wav" ContentType="audio/x-wav"/>
  <Override PartName="/ppt/media/image4.png" ContentType="image/png"/>
  <Override PartName="/ppt/media/image1.png" ContentType="image/png"/>
  <Override PartName="/ppt/media/WOLF.WAV" ContentType="audio/x-wav"/>
  <Override PartName="/ppt/media/image11.png" ContentType="image/png"/>
  <Override PartName="/ppt/media/GIGGLES.wav" ContentType="audio/x-wav"/>
  <Override PartName="/ppt/media/image12.png" ContentType="image/png"/>
  <Override PartName="/ppt/media/image13.png" ContentType="image/png"/>
  <Override PartName="/ppt/media/carhorn2.wav" ContentType="audio/x-wav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A5A-9E67-4175-8610-CC206FFF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442-F275-4029-9BF1-A48DF102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FD0-D9B9-4CE0-8F44-7EB0CC7B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9D9-2E56-498A-860D-2DD612D1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C1CA-F747-4416-84EB-D817D4D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55AA-B3B9-4490-88EB-2DD27F13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0053-FD70-4670-A5AD-181F2C7B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8464-B06F-4CD1-9B10-A0984A3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7A03-B784-495E-AC28-3DFE664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FEC0-69B3-445D-8285-9D77898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F12A-084E-4F8C-8CBB-9FF073F3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72E-9D58-4E50-9B30-DC0BCD2E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60F2-E598-4A06-8DC8-1F424C5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2926-7266-4779-8917-F00D68A5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81A-ED49-4838-BD41-4494D321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7148-2CDD-4082-9AFA-80A74E1E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3371-2329-4CAF-83D6-1BD3BD7C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6DA-6FE6-42C2-9670-545046E2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042-15D6-4AF8-AAB3-C484DDA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2E9-1A0A-412B-B1FA-15CAE1EE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58D-A799-4E66-94B3-BBAD8304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AC1-40C9-45E4-BC9B-B74C67FD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EC0-45C5-42EB-AC4B-7A7A8B6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76E-7A7B-4008-8E8B-A4B7AB8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74D1-1C4F-4B9F-B195-985CDFC56BD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DF91-BB3F-405A-84C6-A96832D9637D}" type="slidenum">
              <a:rPr b="0" lang="en-US" sz="24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fly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fly.wav"/><Relationship Id="rId6" Type="http://schemas.openxmlformats.org/officeDocument/2006/relationships/audio" Target="../media/fly.wav"/><Relationship Id="rId7" Type="http://schemas.openxmlformats.org/officeDocument/2006/relationships/audio" Target="../media/fly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squish1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squish1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prairiedog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WOLF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GIGGL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groan1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calgary.ca/UofC/eduweb/grammar/course/speech/1_1c.htm" TargetMode="External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audio" Target="../media/jungle2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lan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rhorn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rcr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min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bikebe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bikebe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127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Arial"/>
              </a:rPr>
              <a:t>What Possessed You?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omic Sans MS"/>
            </a:endParaRPr>
          </a:p>
        </p:txBody>
      </p:sp>
      <p:pic>
        <p:nvPicPr>
          <p:cNvPr id="90" name="Picture 4" descr="trance"/>
          <p:cNvPicPr/>
          <p:nvPr/>
        </p:nvPicPr>
        <p:blipFill>
          <a:blip r:embed="rId1"/>
          <a:stretch/>
        </p:blipFill>
        <p:spPr>
          <a:xfrm>
            <a:off x="1219320" y="3352680"/>
            <a:ext cx="3632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-71640"/>
            <a:ext cx="86374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Do not confuse possessive words with plural words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ossessive words show ownership.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Black’s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dollhouse is small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lural words show more than one.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Those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girls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are friendly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0" name="Picture 4" descr="breatheblue"/>
          <p:cNvPicPr/>
          <p:nvPr/>
        </p:nvPicPr>
        <p:blipFill>
          <a:blip r:embed="rId1"/>
          <a:stretch/>
        </p:blipFill>
        <p:spPr>
          <a:xfrm>
            <a:off x="7924680" y="304920"/>
            <a:ext cx="857520" cy="81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own"/>
          <p:cNvPicPr/>
          <p:nvPr/>
        </p:nvPicPr>
        <p:blipFill>
          <a:blip r:embed="rId2"/>
          <a:stretch/>
        </p:blipFill>
        <p:spPr>
          <a:xfrm>
            <a:off x="7086600" y="1523880"/>
            <a:ext cx="193356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olkkids"/>
          <p:cNvPicPr/>
          <p:nvPr/>
        </p:nvPicPr>
        <p:blipFill>
          <a:blip r:embed="rId3"/>
          <a:stretch/>
        </p:blipFill>
        <p:spPr>
          <a:xfrm>
            <a:off x="6553080" y="4648320"/>
            <a:ext cx="19051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trash can will attract a lot of ____________ if you leave the lid off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y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ie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fly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5" name="Picture 4" descr="trashcantoon"/>
          <p:cNvPicPr/>
          <p:nvPr/>
        </p:nvPicPr>
        <p:blipFill>
          <a:blip r:embed="rId1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ly2"/>
          <p:cNvPicPr/>
          <p:nvPr/>
        </p:nvPicPr>
        <p:blipFill>
          <a:blip r:embed="rId2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e trash can will attract a lot of ____________ if you leave the lid off.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ly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lie'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ly'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9" name="Picture 4" descr="trashcantoon"/>
          <p:cNvPicPr/>
          <p:nvPr/>
        </p:nvPicPr>
        <p:blipFill>
          <a:blip r:embed="rId1"/>
          <a:stretch/>
        </p:blipFill>
        <p:spPr>
          <a:xfrm>
            <a:off x="5334120" y="3429000"/>
            <a:ext cx="257940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ly2"/>
          <p:cNvPicPr/>
          <p:nvPr/>
        </p:nvPicPr>
        <p:blipFill>
          <a:blip r:embed="rId2"/>
          <a:stretch/>
        </p:blipFill>
        <p:spPr>
          <a:xfrm>
            <a:off x="4648320" y="3502080"/>
            <a:ext cx="757080" cy="71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ly2"/>
          <p:cNvPicPr/>
          <p:nvPr/>
        </p:nvPicPr>
        <p:blipFill>
          <a:blip r:embed="rId3"/>
          <a:stretch/>
        </p:blipFill>
        <p:spPr>
          <a:xfrm>
            <a:off x="5719680" y="2895480"/>
            <a:ext cx="757440" cy="71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fly2"/>
          <p:cNvPicPr/>
          <p:nvPr/>
        </p:nvPicPr>
        <p:blipFill>
          <a:blip r:embed="rId4"/>
          <a:stretch/>
        </p:blipFill>
        <p:spPr>
          <a:xfrm>
            <a:off x="7467480" y="3200400"/>
            <a:ext cx="6858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5" name="Picture 4" descr="tomato"/>
          <p:cNvPicPr/>
          <p:nvPr/>
        </p:nvPicPr>
        <p:blipFill>
          <a:blip r:embed="rId1"/>
          <a:stretch/>
        </p:blipFill>
        <p:spPr>
          <a:xfrm>
            <a:off x="571500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____________________ skin is red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omato'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omatos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8" name="Picture 4" descr="tomato"/>
          <p:cNvPicPr/>
          <p:nvPr/>
        </p:nvPicPr>
        <p:blipFill>
          <a:blip r:embed="rId1"/>
          <a:stretch/>
        </p:blipFill>
        <p:spPr>
          <a:xfrm>
            <a:off x="5715000" y="3124080"/>
            <a:ext cx="2286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qui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41" name="Group 7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142" name="Picture 4" descr="Prairdog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wolf1"/>
            <p:cNvPicPr/>
            <p:nvPr/>
          </p:nvPicPr>
          <p:blipFill>
            <a:blip r:embed="rId2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6" descr="lizard-yellow"/>
            <p:cNvPicPr/>
            <p:nvPr/>
          </p:nvPicPr>
          <p:blipFill>
            <a:blip r:embed="rId3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airiedo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The desert is home to many kinds of _______________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animal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114800" y="3505320"/>
            <a:ext cx="4476600" cy="2819160"/>
            <a:chOff x="4114800" y="3505320"/>
            <a:chExt cx="4476600" cy="2819160"/>
          </a:xfrm>
        </p:grpSpPr>
        <p:pic>
          <p:nvPicPr>
            <p:cNvPr id="148" name="Picture 5" descr="Prairdog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4114800" y="4800600"/>
              <a:ext cx="1120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6" descr="wolf1"/>
            <p:cNvPicPr/>
            <p:nvPr/>
          </p:nvPicPr>
          <p:blipFill>
            <a:blip r:embed="rId2"/>
            <a:stretch/>
          </p:blipFill>
          <p:spPr>
            <a:xfrm>
              <a:off x="5105520" y="350532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lizard-yellow"/>
            <p:cNvPicPr/>
            <p:nvPr/>
          </p:nvPicPr>
          <p:blipFill>
            <a:blip r:embed="rId3"/>
            <a:stretch/>
          </p:blipFill>
          <p:spPr>
            <a:xfrm>
              <a:off x="6934320" y="5562720"/>
              <a:ext cx="16570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OL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s'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3" name="Picture 4" descr="girl3"/>
          <p:cNvPicPr/>
          <p:nvPr/>
        </p:nvPicPr>
        <p:blipFill>
          <a:blip r:embed="rId1"/>
          <a:srcRect l="0" t="0" r="7409" b="0"/>
          <a:stretch/>
        </p:blipFill>
        <p:spPr>
          <a:xfrm>
            <a:off x="6172200" y="41148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IGG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Kendra has two hamsters named Fuzzy and Furry.  The ____________________ cage looks like a tiny house.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hamster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'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hamsterers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6" name="Picture 4" descr="hamsters"/>
          <p:cNvPicPr/>
          <p:nvPr/>
        </p:nvPicPr>
        <p:blipFill>
          <a:blip r:embed="rId1"/>
          <a:stretch/>
        </p:blipFill>
        <p:spPr>
          <a:xfrm>
            <a:off x="6537240" y="3962520"/>
            <a:ext cx="260676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AREX2A"/>
          <p:cNvPicPr/>
          <p:nvPr/>
        </p:nvPicPr>
        <p:blipFill>
          <a:blip r:embed="rId2"/>
          <a:stretch/>
        </p:blipFill>
        <p:spPr>
          <a:xfrm>
            <a:off x="7031160" y="457200"/>
            <a:ext cx="2112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'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0" name="Picture 6" descr="suitcase"/>
          <p:cNvPicPr/>
          <p:nvPr/>
        </p:nvPicPr>
        <p:blipFill>
          <a:blip r:embed="rId1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Comic Sans MS"/>
              </a:rPr>
              <a:t>What are nouns?</a:t>
            </a: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00"/>
                </a:solidFill>
                <a:latin typeface="Comic Sans MS"/>
              </a:rPr>
              <a:t>A noun is a part of speech that describes a person, place, or thing.</a:t>
            </a:r>
            <a:endParaRPr b="0" lang="en-US" sz="5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3" name="Picture 4" descr="chair2"/>
          <p:cNvPicPr/>
          <p:nvPr/>
        </p:nvPicPr>
        <p:blipFill>
          <a:blip r:embed="rId1"/>
          <a:stretch/>
        </p:blipFill>
        <p:spPr>
          <a:xfrm>
            <a:off x="5867280" y="4683240"/>
            <a:ext cx="1981440" cy="164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bob_walking"/>
          <p:cNvPicPr/>
          <p:nvPr/>
        </p:nvPicPr>
        <p:blipFill>
          <a:blip r:embed="rId2"/>
          <a:stretch/>
        </p:blipFill>
        <p:spPr>
          <a:xfrm>
            <a:off x="990720" y="4038480"/>
            <a:ext cx="93348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ome2level"/>
          <p:cNvPicPr/>
          <p:nvPr/>
        </p:nvPicPr>
        <p:blipFill>
          <a:blip r:embed="rId3"/>
          <a:stretch/>
        </p:blipFill>
        <p:spPr>
          <a:xfrm>
            <a:off x="2590920" y="4038480"/>
            <a:ext cx="2590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Billy will carry his ____________ suitcase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sister's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e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sister'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3" name="Picture 4" descr="suitcase"/>
          <p:cNvPicPr/>
          <p:nvPr/>
        </p:nvPicPr>
        <p:blipFill>
          <a:blip r:embed="rId1"/>
          <a:stretch/>
        </p:blipFill>
        <p:spPr>
          <a:xfrm>
            <a:off x="5715000" y="3809880"/>
            <a:ext cx="2276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oa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I borrowed ___________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6" name="Picture 10" descr="sweater"/>
          <p:cNvPicPr/>
          <p:nvPr/>
        </p:nvPicPr>
        <p:blipFill>
          <a:blip r:embed="rId1"/>
          <a:stretch/>
        </p:blipFill>
        <p:spPr>
          <a:xfrm>
            <a:off x="5410080" y="2286000"/>
            <a:ext cx="30196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I borrowed _________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sweater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Jane's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Jane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4" descr="Untitled-1"/>
          <p:cNvPicPr/>
          <p:nvPr/>
        </p:nvPicPr>
        <p:blipFill>
          <a:blip r:embed="rId1"/>
          <a:stretch/>
        </p:blipFill>
        <p:spPr>
          <a:xfrm>
            <a:off x="4724280" y="3886200"/>
            <a:ext cx="3495960" cy="23828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/>
          <p:cNvSpPr/>
          <p:nvPr/>
        </p:nvSpPr>
        <p:spPr>
          <a:xfrm>
            <a:off x="5029200" y="1447920"/>
            <a:ext cx="4114800" cy="1904760"/>
          </a:xfrm>
          <a:prstGeom prst="wedgeEllipseCallout">
            <a:avLst>
              <a:gd name="adj1" fmla="val -13273"/>
              <a:gd name="adj2" fmla="val 76416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560920" y="1905120"/>
            <a:ext cx="33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I am Jane and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this is my sweater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w did you do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Want more practice?  Try the button below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4" name="Picture 4" descr="clickhere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4267080"/>
            <a:ext cx="2762280" cy="1219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think-monkey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705720" y="3124080"/>
            <a:ext cx="2027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jungle2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Comic Sans MS"/>
              </a:rPr>
              <a:t>What is a possessive noun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00"/>
                </a:solidFill>
                <a:latin typeface="Comic Sans MS"/>
              </a:rPr>
              <a:t>A possessive noun is a noun that "owns" something else in the sentence. </a:t>
            </a:r>
            <a:endParaRPr b="0" lang="en-US" sz="5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4" descr="mine"/>
          <p:cNvPicPr/>
          <p:nvPr/>
        </p:nvPicPr>
        <p:blipFill>
          <a:blip r:embed="rId1"/>
          <a:stretch/>
        </p:blipFill>
        <p:spPr>
          <a:xfrm>
            <a:off x="5791320" y="4419720"/>
            <a:ext cx="1811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Comic Sans MS"/>
              </a:rPr>
              <a:t>For example:</a:t>
            </a: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omic Sans MS"/>
              </a:rPr>
              <a:t>The airplane's engine was loud. 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omic Sans MS"/>
              </a:rPr>
              <a:t>The airplane "owns" the engine. 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omic Sans MS"/>
              </a:rPr>
              <a:t>Possessive nouns are often shown with apostrophes.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1" name="Picture 4" descr="aircrafts022"/>
          <p:cNvPicPr/>
          <p:nvPr/>
        </p:nvPicPr>
        <p:blipFill>
          <a:blip r:embed="rId1"/>
          <a:stretch/>
        </p:blipFill>
        <p:spPr>
          <a:xfrm>
            <a:off x="0" y="990720"/>
            <a:ext cx="142884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n you make this sentence possessiv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00"/>
                </a:solidFill>
                <a:latin typeface="Comic Sans MS"/>
              </a:rPr>
              <a:t>Miguel owns that car.</a:t>
            </a:r>
            <a:endParaRPr b="0" lang="en-US" sz="6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" name="Picture 4" descr="car-red1"/>
          <p:cNvPicPr/>
          <p:nvPr/>
        </p:nvPicPr>
        <p:blipFill>
          <a:blip r:embed="rId1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hor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385560"/>
            <a:ext cx="863748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Answer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00"/>
                </a:solidFill>
                <a:latin typeface="Comic Sans MS"/>
              </a:rPr>
              <a:t>That is Miguel</a:t>
            </a: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's</a:t>
            </a:r>
            <a:r>
              <a:rPr b="0" lang="en-US" sz="6600" spc="-1" strike="noStrike">
                <a:solidFill>
                  <a:srgbClr val="333300"/>
                </a:solidFill>
                <a:latin typeface="Comic Sans MS"/>
              </a:rPr>
              <a:t> car.</a:t>
            </a:r>
            <a:endParaRPr b="0" lang="en-US" sz="6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7" name="Picture 4" descr="car-red1"/>
          <p:cNvPicPr/>
          <p:nvPr/>
        </p:nvPicPr>
        <p:blipFill>
          <a:blip r:embed="rId1"/>
          <a:stretch/>
        </p:blipFill>
        <p:spPr>
          <a:xfrm>
            <a:off x="2514600" y="3505320"/>
            <a:ext cx="6114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cr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Comic Sans MS"/>
              </a:rPr>
              <a:t>When there is use of a possessive, the question "Who owns it?" can be asked and answered.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0" name="Picture 4" descr="selfish"/>
          <p:cNvPicPr/>
          <p:nvPr/>
        </p:nvPicPr>
        <p:blipFill>
          <a:blip r:embed="rId1"/>
          <a:stretch/>
        </p:blipFill>
        <p:spPr>
          <a:xfrm>
            <a:off x="6629400" y="4267080"/>
            <a:ext cx="2514600" cy="24163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7620120" y="3505320"/>
            <a:ext cx="1523880" cy="914400"/>
          </a:xfrm>
          <a:prstGeom prst="wedgeEllipseCallout">
            <a:avLst>
              <a:gd name="adj1" fmla="val -20310"/>
              <a:gd name="adj2" fmla="val 69967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Mine!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4" name="Picture 4" descr="bicycle1"/>
          <p:cNvPicPr/>
          <p:nvPr/>
        </p:nvPicPr>
        <p:blipFill>
          <a:blip r:embed="rId1"/>
          <a:stretch/>
        </p:blipFill>
        <p:spPr>
          <a:xfrm>
            <a:off x="5105520" y="3124080"/>
            <a:ext cx="3200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ich answer best fits in the blank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___ bicycle is broken.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'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e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h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D.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	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Comic Sans MS"/>
              </a:rPr>
              <a:t>Seth'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7" name="Picture 4" descr="bicycle1"/>
          <p:cNvPicPr/>
          <p:nvPr/>
        </p:nvPicPr>
        <p:blipFill>
          <a:blip r:embed="rId1"/>
          <a:stretch/>
        </p:blipFill>
        <p:spPr>
          <a:xfrm>
            <a:off x="5105520" y="3124080"/>
            <a:ext cx="3200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8:47Z</dcterms:created>
  <dc:creator>Faye Humbard</dc:creator>
  <dc:description/>
  <dc:language>en-US</dc:language>
  <cp:lastModifiedBy>teacher</cp:lastModifiedBy>
  <dcterms:modified xsi:type="dcterms:W3CDTF">2013-11-05T14:09:33Z</dcterms:modified>
  <cp:revision>9</cp:revision>
  <dc:subject/>
  <dc:title>What Possessed You?</dc:title>
</cp:coreProperties>
</file>